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29DE-94BC-430B-B63B-83C9507EB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CFD5-91BE-4ACA-A10B-32065A0C1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Trakai forest (Lithuania?) from: http://andreasmoser.wordpress.com/2012/07/07/trak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5752-F7BF-4FDF-95EF-5F6ABC210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Kraus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lubmoss: http://21stcenturynaturalist.blogspot.ca/2010/07/lycophytes-are-living-fossi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9972-4CA2-490C-B7E3-ABAFBBB5A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Massachussets fern from: http://21stcenturynaturalist.blogspot.ca/2010/07/lycophytes-are-living-fossi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miami.edu/dana/dox/altg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A138-3C81-4438-B1E1-BEAD50FD9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AB70-010E-4741-BDE2-7C6A4F62A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1b.nicerweb.net/Locked/media/ch30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5B6D-3F1F-42E6-A447-5A5CAAA30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.clc.uc.edu/courses/bio106/gymnosp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6CFE-C149-4502-8A1D-B823952BB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labs.utah.edu/sperry/proje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0A6D-7686-4C88-B316-34EFBF39A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sites.google.com/site/botany317/session-2/eukaryotes/plants/session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D48C-0FAC-475C-8928-6895FDC47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ussex3d.com/avon-wheatbelt/flower-and-honeyeate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6A3C-5980-4E3B-8C09-40074BC57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ww.learner.org/courses/essential/life/session4/closer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B0EA-CA05-4B30-B185-F587E6D81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raphicpanic.com/beautiful-leaves-background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4B3F-ACA8-4286-8FEA-9C4554E65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spaliers.com.au/maintaining-your-plant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nx.org/contents/HEWmanoj@6/Evolution-of-Seed-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1BA3-06C6-4DCE-807F-BBBC6A97E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justanswer.com/tax/0e5hx-cross-section-monocot-leaf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A4DA-9861-40C0-AD27-758BA9A62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ohioplants.org/bryophytes-introduc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3539-53C1-4631-ACA6-8B4047105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3C64-D331-4361-9DEA-F94B193A3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fkeep.org/html/stitch.php?s=54373324154293&amp;id=7774881383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commons.wikimedia.org/wiki/File:Moss_alternation_of_generations_03-2012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BD53-407F-4381-B7B5-862EFBBDC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A844-A145-4723-A56B-2D21BE5D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128-1299-42FF-BE18-967DFD85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515-00F8-47C4-98A6-05774695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3B2C-CE46-40A6-8F29-017447F6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3D21-3F55-4C93-B215-9083A4AF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238-F7AE-4DF5-A49A-57C1D316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3D8B-21A0-4577-8AE0-3BF30CFB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8DB-448E-415A-92EF-2C738C0C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0A30-BD3E-4DE9-9F9C-33D6065B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96A9-7062-492D-8AC6-6246E015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7B66-10FD-4410-ACC6-60DDCFAF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21D-A416-4083-88D6-8453390F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9C45-22D1-4A81-B687-6A9026C18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Plant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ycophytes (club mos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SCF6428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terophytes (ferns &amp; relativ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DSCN3187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" descr="fern_altgen.jpg"/>
          <p:cNvPicPr/>
          <p:nvPr/>
        </p:nvPicPr>
        <p:blipFill>
          <a:blip r:embed="rId1"/>
          <a:srcRect l="-13344" t="0" r="-13344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30_04aGymnospermConiferophyta"/>
          <p:cNvPicPr/>
          <p:nvPr/>
        </p:nvPicPr>
        <p:blipFill>
          <a:blip r:embed="rId1"/>
          <a:stretch/>
        </p:blipFill>
        <p:spPr>
          <a:xfrm>
            <a:off x="1593720" y="1600200"/>
            <a:ext cx="5956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SC 9805&amp;06 male &amp; female pine cones 3"/>
          <p:cNvPicPr/>
          <p:nvPr/>
        </p:nvPicPr>
        <p:blipFill>
          <a:blip r:embed="rId1"/>
          <a:stretch/>
        </p:blipFill>
        <p:spPr>
          <a:xfrm>
            <a:off x="938160" y="1676520"/>
            <a:ext cx="72676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Basal angiosperms"/>
          <p:cNvPicPr/>
          <p:nvPr/>
        </p:nvPicPr>
        <p:blipFill>
          <a:blip r:embed="rId1"/>
          <a:stretch/>
        </p:blipFill>
        <p:spPr>
          <a:xfrm>
            <a:off x="1495440" y="1600200"/>
            <a:ext cx="6227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Angiosperms"/>
          <p:cNvPicPr/>
          <p:nvPr/>
        </p:nvPicPr>
        <p:blipFill>
          <a:blip r:embed="rId1"/>
          <a:stretch/>
        </p:blipFill>
        <p:spPr>
          <a:xfrm>
            <a:off x="1447920" y="304920"/>
            <a:ext cx="6248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images"/>
          <p:cNvPicPr/>
          <p:nvPr/>
        </p:nvPicPr>
        <p:blipFill>
          <a:blip r:embed="rId1"/>
          <a:stretch/>
        </p:blipFill>
        <p:spPr>
          <a:xfrm>
            <a:off x="906480" y="609480"/>
            <a:ext cx="73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how4"/>
          <p:cNvPicPr/>
          <p:nvPr/>
        </p:nvPicPr>
        <p:blipFill>
          <a:blip r:embed="rId1"/>
          <a:stretch/>
        </p:blipFill>
        <p:spPr>
          <a:xfrm>
            <a:off x="1577880" y="1981080"/>
            <a:ext cx="598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ellular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all are photosyn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s composed of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strial plants are ses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ats for other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uses (medicines, clothing, wood, paper products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d from anci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ophy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green alga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characteristics with present-day charophytes: chlorophy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ther pigments, formation of cell plate, cellulose in cell wall, use of starch as storage molecul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5" descr="Figure_26_01_06.jpg"/>
          <p:cNvPicPr/>
          <p:nvPr/>
        </p:nvPicPr>
        <p:blipFill>
          <a:blip r:embed="rId1"/>
          <a:srcRect l="-5715" t="0" r="-5715" b="0"/>
          <a:stretch/>
        </p:blipFill>
        <p:spPr>
          <a:xfrm>
            <a:off x="539640" y="549360"/>
            <a:ext cx="8064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ion to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strategies to prevent water loss while allowing gas exchang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ti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m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2" descr="2006-10-05_174206_monocot_leaf.jpg"/>
          <p:cNvPicPr/>
          <p:nvPr/>
        </p:nvPicPr>
        <p:blipFill>
          <a:blip r:embed="rId1"/>
          <a:srcRect l="0" t="-25554" r="0" b="-25554"/>
          <a:stretch/>
        </p:blipFill>
        <p:spPr>
          <a:xfrm>
            <a:off x="4427640" y="1700280"/>
            <a:ext cx="4321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Major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4" descr="plantkingdom.gif"/>
          <p:cNvPicPr/>
          <p:nvPr/>
        </p:nvPicPr>
        <p:blipFill>
          <a:blip r:embed="rId1"/>
          <a:srcRect l="-30125" t="0" r="-30125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phpThumb"/>
          <p:cNvPicPr/>
          <p:nvPr/>
        </p:nvPicPr>
        <p:blipFill>
          <a:blip r:embed="rId1"/>
          <a:stretch/>
        </p:blipFill>
        <p:spPr>
          <a:xfrm>
            <a:off x="685800" y="819000"/>
            <a:ext cx="77724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4" descr="Moss_alternation_of_generations_03-2012.png"/>
          <p:cNvPicPr/>
          <p:nvPr/>
        </p:nvPicPr>
        <p:blipFill>
          <a:blip r:embed="rId1"/>
          <a:srcRect l="-6662" t="0" r="-6662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03:08:23Z</dcterms:created>
  <dc:creator>rubina khan</dc:creator>
  <dc:description/>
  <dc:language>en-US</dc:language>
  <cp:lastModifiedBy>rubina khan</cp:lastModifiedBy>
  <dcterms:modified xsi:type="dcterms:W3CDTF">2017-04-03T10:41:07Z</dcterms:modified>
  <cp:revision>43</cp:revision>
  <dc:subject/>
  <dc:title>PowerPoint Presentation</dc:title>
</cp:coreProperties>
</file>